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33D-E626-4F8C-A3C4-24FDF15C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B5A-C594-48A8-B847-8FC919B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071-5B11-42B1-94CC-C33BEF2A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D8C-6C09-43F3-8457-67B29FFC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E0FE-A976-4FF6-8D28-1E707519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08C-EC4F-46E6-AA29-E02B89E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CC23-6C50-4295-A5A7-6738548C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8B4D-FDF2-4910-976B-A6CB4682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D8BC-5118-493D-BAA0-0AF1522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85C-D0DD-4DDD-BA43-68515DC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70B8-F0E1-4C3F-BA46-6D25B27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96A-21D0-4C95-93D1-37CE803B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A62-8C32-48DA-BFB1-E44695D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98D-6D3A-4E57-9276-62B3F72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4465-6F01-4C90-8CC8-A63BF611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2449-645B-48FE-9723-569B477C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CF9-1860-4CFE-8C80-E9CF977B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2C4-9637-49D5-B3D6-A94DDDF3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24B-50F2-4F59-9CFB-7E10EE52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1AC-7651-4830-93F0-24EB7BB3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A32-AF33-440F-BC49-8AD91B88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E6C-26DF-441C-BCF4-2F9D870C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C79-5E15-4FD3-B1F3-E6A0578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DFC-AF2D-4230-8858-DF52450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1D1-B08D-41FC-90C2-D3551AA28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612-BFAD-4AB4-8B33-60AE91467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4608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crosoft Wor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280" y="2060280"/>
            <a:ext cx="817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Tahoma"/>
              </a:rPr>
              <a:t>OPERATII DE PROCESARE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Tahoma"/>
              </a:rPr>
              <a:t>A TEXT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troduc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Selec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Modific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Sterg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nularea unei comenz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opierea si 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opi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autarea unui 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locuirea unui text cu al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serarea unui simbol spe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Inlocuirea unui text cu altu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9930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 fereastra Find and Replace (Gasire si inlocuire) se alege optiunea Replace (Inlocui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introduce textul care va fi inlocuit in caseta Find what (De cauta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introduce textul cu care va fi inlocuit in caseta Replace with (Inlocuire c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apasa Replace (Inlocuire) sau Replace All (Inlocuire peste to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7"/>
          <p:cNvGraphicFramePr/>
          <p:nvPr/>
        </p:nvGraphicFramePr>
        <p:xfrm>
          <a:off x="1619280" y="4292640"/>
          <a:ext cx="65530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92640"/>
                    <a:ext cx="65530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Inserarea unui simbol speci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/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re fereastra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lecteaza simbolul si se apasa butonu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84360" y="3141720"/>
          <a:ext cx="525636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141720"/>
                    <a:ext cx="525636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roducerea textulu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1640" y="2781360"/>
            <a:ext cx="331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extul se introduce cursiv de la tast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219640" y="2492280"/>
          <a:ext cx="30481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492280"/>
                    <a:ext cx="3048120" cy="2676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49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Select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poate realiza cu ajutorul tastaturii sau mouse-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ntru a renunta la selectie, se poate da clic oriunde pe foaia de luc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u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uva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dublu</a:t>
            </a:r>
            <a:r>
              <a:rPr b="0" lang="en-US" sz="20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clic de mouse pe cuv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e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fraz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triplu clic pe un cuvant din fraz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espec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u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aragra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prin selectarea cu ajutorul mouse-ului a inceputului rand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tregului text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Ctrl+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se poate face tinand apasate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tastele SHIFT + tastele DIRECTIONA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functie de directia dor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5184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Modific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racter cu carac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 tasta BackSpace - sterge caracterele din stanga cursor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 tasta Delete - sterge caracterele din dreapta cursor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rin suprascrie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 activeaza prin dublu clic optiunea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verwri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flata pe bara de stare a ferestrei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859280" y="4005360"/>
          <a:ext cx="287964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005360"/>
                    <a:ext cx="287964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4859280" y="5504040"/>
          <a:ext cx="287964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5504040"/>
                    <a:ext cx="287964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11"/>
          <p:cNvSpPr/>
          <p:nvPr/>
        </p:nvSpPr>
        <p:spPr>
          <a:xfrm flipV="1">
            <a:off x="7308720" y="4652640"/>
            <a:ext cx="5032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7308720" y="5805000"/>
            <a:ext cx="576360" cy="8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740720" y="4437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ptiune neactiv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956720" y="566748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ptiune activ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Sterge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i se apasa tast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4859280" y="2205000"/>
          <a:ext cx="38163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205000"/>
                    <a:ext cx="38163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8"/>
          <p:cNvSpPr/>
          <p:nvPr/>
        </p:nvSpPr>
        <p:spPr>
          <a:xfrm>
            <a:off x="4572000" y="2421000"/>
            <a:ext cx="144000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nularea unei comenz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29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 utilizeaza atunci cand dorim sa renuntam la efectul ultimei operatii ( de exemplu stergerea ultimului carac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n meniul Edit se alege comanda Un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 poate alege butonul Undo de pe bara cu instrumente Stand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5940360" y="2205000"/>
          <a:ext cx="295128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205000"/>
                    <a:ext cx="295128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Line 6"/>
          <p:cNvSpPr/>
          <p:nvPr/>
        </p:nvSpPr>
        <p:spPr>
          <a:xfrm flipV="1">
            <a:off x="4932360" y="3933360"/>
            <a:ext cx="2232000" cy="158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345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pierea si mut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504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ot utiliza butoanele </a:t>
            </a:r>
            <a:r>
              <a:rPr b="1" lang="en-US" sz="2400" spc="-1" strike="noStrike">
                <a:solidFill>
                  <a:srgbClr val="00d5d0"/>
                </a:solidFill>
                <a:latin typeface="Tahoma"/>
              </a:rPr>
              <a:t>Cop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d5d0"/>
                </a:solidFill>
                <a:latin typeface="Tahoma"/>
              </a:rPr>
              <a:t>Cut, Pas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 pe bara cu instrumente Standard – identificarea 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ierea si mutarea textului in diferite parti ale documentului sau chiar din documente diferite, este posibila datorita existentei Clipboard-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lipbo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e o memorie temporara folosita la pastrarea pe termen scurt a cuvintelor, imaginilor, diagramelor sau a altor obiec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5940360" y="2205000"/>
          <a:ext cx="295272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205000"/>
                    <a:ext cx="2952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Line 6"/>
          <p:cNvSpPr/>
          <p:nvPr/>
        </p:nvSpPr>
        <p:spPr>
          <a:xfrm>
            <a:off x="4716360" y="2060640"/>
            <a:ext cx="2592360" cy="20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1403280" y="2421000"/>
            <a:ext cx="5184720" cy="187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2627280" y="2349360"/>
            <a:ext cx="5473800" cy="180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42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)Copierea textulu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dreapta pe selectie si se alege comanda Copy (Copie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in locul unde dorim sa copiem textul si se alege comanda Paste (Lipi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u Edit/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b)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dreapta pe selectie si se alege comanda Cut (Decup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in locul unde dorim sa copiem textul si se alege comanda Paste (Lipi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u Edit/C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5364000" y="1628640"/>
          <a:ext cx="26546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628640"/>
                    <a:ext cx="26546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7"/>
          <p:cNvSpPr/>
          <p:nvPr/>
        </p:nvSpPr>
        <p:spPr>
          <a:xfrm>
            <a:off x="3276720" y="1484280"/>
            <a:ext cx="3024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5364000" y="4292640"/>
          <a:ext cx="266400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292640"/>
                    <a:ext cx="26640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1"/>
          <p:cNvSpPr/>
          <p:nvPr/>
        </p:nvSpPr>
        <p:spPr>
          <a:xfrm>
            <a:off x="4572000" y="4365720"/>
            <a:ext cx="187164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autarea unui tex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5376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lecteaza din meniul Edit optiunea Find (Gas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 aparea fereastra Find and Replace(Gasire si inlocu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asteaza textul cau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apasa butonul Find next (Urmatorul gas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1547640" y="3860640"/>
          <a:ext cx="6913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860640"/>
                    <a:ext cx="6913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9:28:47Z</dcterms:created>
  <dc:creator/>
  <dc:description/>
  <dc:language>en-US</dc:language>
  <cp:lastModifiedBy>HE</cp:lastModifiedBy>
  <dcterms:modified xsi:type="dcterms:W3CDTF">2010-12-25T08:55:29Z</dcterms:modified>
  <cp:revision>16</cp:revision>
  <dc:subject/>
  <dc:title>Microsoft Word</dc:title>
</cp:coreProperties>
</file>